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3D1E-1B0A-407F-8A4C-F2FA22A31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Foot_bi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B8E-C94C-4340-889D-491B1644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DEF-9A57-42CA-937D-7EC84F60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CA50-BCEA-4932-99D4-DD9B4924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2E3-0E3A-46D8-8E31-E454C1B1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D47-F602-4924-B634-EC5ABF11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1CB-58F7-4527-BCD7-EC4E846D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279-7B21-4CED-AB0E-25B34FB1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8B8-96F6-46A6-B044-3EB55F84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246-B80F-4452-BFDD-4769D741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778-6FA7-4620-8643-03529A16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346-DB31-4FCB-9F9F-B8043FF8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6A4-B701-4B41-AF5D-5BF7CD22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36E1-2BB1-4E6D-B9C8-A229B4027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cds.charlotte.nc.us/History/China/04/hutchins/hutchins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n.wikipedia.org/wiki/Image:FootBindingRxSchema2.gi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People Alter Their Physical Appear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ncient Chi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US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Culture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, Eyebrow, Nose, Lip, Bellybutton, etc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tt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o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-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’s Sho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th Century BCE -191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shoe pic.gif (45544 bytes)"/>
          <p:cNvPicPr/>
          <p:nvPr/>
        </p:nvPicPr>
        <p:blipFill>
          <a:blip r:embed="rId1"/>
          <a:stretch/>
        </p:blipFill>
        <p:spPr>
          <a:xfrm>
            <a:off x="2057400" y="1523880"/>
            <a:ext cx="4229280" cy="370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0960" y="5370480"/>
            <a:ext cx="73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ds.charlotte.nc.us/History/China/04/hutchins/hutchi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footpic.gif (88129 bytes)"/>
          <p:cNvPicPr/>
          <p:nvPr/>
        </p:nvPicPr>
        <p:blipFill>
          <a:blip r:embed="rId1"/>
          <a:stretch/>
        </p:blipFill>
        <p:spPr>
          <a:xfrm>
            <a:off x="228600" y="228600"/>
            <a:ext cx="6019920" cy="4064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X-ray comparison between unbound and bound foot (schema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4702320"/>
            <a:ext cx="59626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02:15:52Z</dcterms:created>
  <dc:creator>Karoline</dc:creator>
  <dc:description/>
  <dc:language>en-US</dc:language>
  <cp:lastModifiedBy>Karoline</cp:lastModifiedBy>
  <dcterms:modified xsi:type="dcterms:W3CDTF">2008-04-20T18:19:28Z</dcterms:modified>
  <cp:revision>7</cp:revision>
  <dc:subject/>
  <dc:title>How Do People Alter Their Physical Appearance?</dc:title>
</cp:coreProperties>
</file>